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%20Slide%20Graphic%204%20150dpi%20s80%20c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orking with graphics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nd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Work with graphics and clip 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sert WordArt and symbols into a docu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ustomize the background of a docu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the drawing tools to create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Adjusting contrast and brightness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lect the im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oose Format, Pict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ctivate the Picture ta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nder Image Control, enter the desired values in the Contrast and Brightness box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A-4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4424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justing the contrast and brightness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f a graph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dding borde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Borders button on the Formatting toolba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Borders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A-5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ing a border to a graph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Advanced Layout dialog box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3" name="Exhibit2" descr=""/>
          <p:cNvPicPr/>
          <p:nvPr/>
        </p:nvPicPr>
        <p:blipFill>
          <a:blip r:embed="rId2"/>
          <a:stretch/>
        </p:blipFill>
        <p:spPr>
          <a:xfrm>
            <a:off x="2073240" y="1031760"/>
            <a:ext cx="608796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A-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Wrapping text around a graph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Working with graphics and clip 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Inserting WordArt and symbo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Customizing the backgroun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Using drawing too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Inserting WordAr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isplay the WordArt Gallery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lect a style and 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nter the text you want to inse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odify the font and siz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B-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serting a WordArt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diting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a WordArt objec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the Edit Text button on the WordArt toolba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Edit Text from the shortcut menu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Working with graphics and clip 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Inserting WordArt and symbo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Customizing the backgroun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Using drawing too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Splitting a windo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oose Window, Split, and drag the split bar to the desired posi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rag the Split box directly above the vertical scroll bar down to the desired position to divide the window into two pan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B-2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diting and moving a WordArt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diting and moving a WordArt object (Movie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2" name="ShockwaveFlash1"/>
          <p:cNvGraphicFramePr/>
          <p:nvPr/>
        </p:nvGraphicFramePr>
        <p:xfrm>
          <a:off x="1477800" y="1112760"/>
          <a:ext cx="7150320" cy="541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7800" y="1112760"/>
                    <a:ext cx="7150320" cy="5410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Symbol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5" name="Exhibit4" descr=""/>
          <p:cNvPicPr/>
          <p:nvPr/>
        </p:nvPicPr>
        <p:blipFill>
          <a:blip r:embed="rId2"/>
          <a:stretch/>
        </p:blipFill>
        <p:spPr>
          <a:xfrm>
            <a:off x="1654200" y="1189080"/>
            <a:ext cx="640728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B-3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serting a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Working with graphics and clip 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Inserting WordArt and symbo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C: Customizing the backgroun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Using drawing too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Fill Effects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2" name="filleffects" descr=""/>
          <p:cNvPicPr/>
          <p:nvPr/>
        </p:nvPicPr>
        <p:blipFill>
          <a:blip r:embed="rId2"/>
          <a:stretch/>
        </p:blipFill>
        <p:spPr>
          <a:xfrm>
            <a:off x="2362320" y="909720"/>
            <a:ext cx="460692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C-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ing background colors and fill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dding a watermar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ormat, Background, Printed Watermar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ext watermar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the text for the watermar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ormat the tex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Apply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C-2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ing a water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Inserting graphics from fil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oose Insert, Picture, From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vigate to the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Inse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pplying a them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ormat, Theme to open the Theme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nder Choose a Theme, select a the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C-3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pplying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Working with graphics and clip 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Inserting WordArt and symbo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Customizing the backgroun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D: Using drawing too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rawing lines and figur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oose View, Toolbars, Drawing to display the Drawing toolbar and the drawing canva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he line or shape tool you want to u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rag to draw the line or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drawing canva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1" name="Exhibit5" descr=""/>
          <p:cNvPicPr/>
          <p:nvPr/>
        </p:nvPicPr>
        <p:blipFill>
          <a:blip r:embed="rId2"/>
          <a:stretch/>
        </p:blipFill>
        <p:spPr>
          <a:xfrm>
            <a:off x="1925640" y="1758960"/>
            <a:ext cx="6270480" cy="270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D-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ing lines and fig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Grouping drawing objec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first object in the grou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Press and hold the Shift key, and click to select additional objec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When all objects are selected, choose Draw, Group on the Drawing toolba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D-2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Grouping drawing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Format Text Box dialog box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1" name="Exhibit6" descr=""/>
          <p:cNvPicPr/>
          <p:nvPr/>
        </p:nvPicPr>
        <p:blipFill>
          <a:blip r:embed="rId2"/>
          <a:stretch/>
        </p:blipFill>
        <p:spPr>
          <a:xfrm>
            <a:off x="2333520" y="1042920"/>
            <a:ext cx="59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D-3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ing and modifying a text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A-1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serting a graphic from 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Diagram Galle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Exhibit7" descr=""/>
          <p:cNvPicPr/>
          <p:nvPr/>
        </p:nvPicPr>
        <p:blipFill>
          <a:blip r:embed="rId2"/>
          <a:stretch/>
        </p:blipFill>
        <p:spPr>
          <a:xfrm>
            <a:off x="2806560" y="1357200"/>
            <a:ext cx="3894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D-4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serting a conceptual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ing callou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 the Drawing toolbar, click Auto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oose Callou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he type of callout you want to u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where you want to insert the callo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nter text, and resize the callout if necess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D-5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ing a call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orked with graphics and clip 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serted WordArt and symbols into a docu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ustomized the background of a docu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d the drawing tools to create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The Clip Art task pane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1" name="Exhibit1" descr=""/>
          <p:cNvPicPr/>
          <p:nvPr/>
        </p:nvPicPr>
        <p:blipFill>
          <a:blip r:embed="rId2"/>
          <a:stretch/>
        </p:blipFill>
        <p:spPr>
          <a:xfrm>
            <a:off x="3622680" y="1371600"/>
            <a:ext cx="2440080" cy="50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A-2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serting clip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Format Picture dialog box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format picture with the size tab" descr=""/>
          <p:cNvPicPr/>
          <p:nvPr/>
        </p:nvPicPr>
        <p:blipFill>
          <a:blip r:embed="rId2"/>
          <a:stretch/>
        </p:blipFill>
        <p:spPr>
          <a:xfrm>
            <a:off x="2198520" y="995400"/>
            <a:ext cx="59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sizing graphic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lect the graphi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rag a corner selection handle to proportionally increase or decrease the obje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ctivity A-3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94160" y="1981080"/>
            <a:ext cx="2068560" cy="207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4424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Modifying and moving a graph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Laurie A Perry</cp:lastModifiedBy>
  <dcterms:modified xsi:type="dcterms:W3CDTF">2005-08-05T15:42:50Z</dcterms:modified>
  <cp:revision>275</cp:revision>
  <dc:subject/>
  <dc:title>PowerPoint Presentation</dc:title>
</cp:coreProperties>
</file>